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9657-042E-4CBC-8041-45BBEA3C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C33-963D-4F54-B79E-6301FE68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EB57-A51D-4794-9B53-17875CE9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606C-8BAC-40FF-B82E-3568DA4C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E0E7-362D-437D-8E84-0D5BB6C3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67A1-6475-439B-A566-C4ADAA1A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7720-8FE6-4247-B151-2D1317F9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F1E9-3048-491D-962A-67C14907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50FB-210A-4BE7-9F40-386E0263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30EE-4E9B-46E4-B388-A8835F5A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C209-2BF3-4390-AF0B-31854D06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5E5B-6426-4A63-B872-C1329CA4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3C21-8FE1-4BE3-BB16-707EB95E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D3F1-7208-4205-922B-A254852A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B8B6-4D5E-40CA-A208-98344D02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CF5A-63C4-49AC-84D9-C5CF6A59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C266-E6FB-42AD-B18E-BD7A526D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50B-155F-4C33-A0D4-1AF29052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CD7-A6E0-4268-9C0F-CEDF0AC5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109-B492-4CD5-9D8C-9276EE06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068-AC93-4AB2-8BEC-16FFF7A6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7517-590E-43FC-90E5-49EF5D5F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F8C-7A5C-431D-99ED-CEFE6A0E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A9CB-2594-4251-9CE7-106C13E2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5E5B-C631-4355-9517-850BC4D7D7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1AC3-C3AA-4CCF-A421-7B2FDDD40B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F:/Curs%20Bihor/CD%20Intel%20Teach/Curs_Intel_Teach/download/Unit_Portfolios/ProfesoriMaster/Chimie/Proprietatile%20generale%20ale%20metalelor/Evaluare/Lista%20verificare_prezentare_GN.doc" TargetMode="External"/><Relationship Id="rId2" Type="http://schemas.openxmlformats.org/officeDocument/2006/relationships/hyperlink" Target="file:///F:/Curs%20Bihor/CD%20Intel%20Teach/Curs_Intel_Teach/download/Unit_Portfolios/ProfesoriMaster/Chimie/Proprietatile%20generale%20ale%20metalelor/Evaluare/Lisata%20verificare_%20publicatie_GN.doc" TargetMode="External"/><Relationship Id="rId3" Type="http://schemas.openxmlformats.org/officeDocument/2006/relationships/hyperlink" Target="file:///F:/Curs%20Bihor/CD%20Intel%20Teach/Curs_Intel_Teach/download/Unit_Portfolios/ProfesoriMaster/Chimie/Proprietatile%20generale%20ale%20metalelor/Evaluare/Lisata%20verificare_%20publicatie_GN.doc" TargetMode="External"/><Relationship Id="rId4" Type="http://schemas.openxmlformats.org/officeDocument/2006/relationships/hyperlink" Target="file:///F:/Curs%20Bihor/CD%20Intel%20Teach/Curs_Intel_Teach/download/Unit_Portfolios/ProfesoriMaster/Chimie/Proprietatile%20generale%20ale%20metalelor/Evaluare/Lisata%20verificare_%20publicatie_GN.doc" TargetMode="External"/><Relationship Id="rId5" Type="http://schemas.openxmlformats.org/officeDocument/2006/relationships/hyperlink" Target="file:///F:/Curs%20Bihor/CD%20Intel%20Teach/Curs_Intel_Teach/download/Unit_Portfolios/ProfesoriMaster/Chimie/Proprietatile%20generale%20ale%20metalelor/Evaluare/Lisata%20verificare_%20publicatie_GN.doc" TargetMode="External"/><Relationship Id="rId6" Type="http://schemas.openxmlformats.org/officeDocument/2006/relationships/hyperlink" Target="file:///F:/Curs%20Bihor/CD%20Intel%20Teach/Curs_Intel_Teach/download/Unit_Portfolios/ProfesoriMaster/Chimie/Proprietatile%20generale%20ale%20metalelor/Evaluare/Lisata%20verificare_%20publicatie_GN.doc" TargetMode="External"/><Relationship Id="rId7" Type="http://schemas.openxmlformats.org/officeDocument/2006/relationships/hyperlink" Target="file:///F:/Curs%20Bihor/CD%20Intel%20Teach/Curs_Intel_Teach/download/Unit_Portfolios/ProfesoriMaster/Chimie/Proprietatile%20generale%20ale%20metalelor/Evaluare/Lisata%20verificare_%20publicatie_GN.doc" TargetMode="External"/><Relationship Id="rId8" Type="http://schemas.openxmlformats.org/officeDocument/2006/relationships/hyperlink" Target="file:///F:/Curs%20Bihor/CD%20Intel%20Teach/Curs_Intel_Teach/download/Unit_Portfolios/ProfesoriMaster/Chimie/Proprietatile%20generale%20ale%20metalelor/Evaluare/Lisata%20verificare_%20publicatie_GN.doc" TargetMode="External"/><Relationship Id="rId9" Type="http://schemas.openxmlformats.org/officeDocument/2006/relationships/hyperlink" Target="file:///F:/Curs%20Bihor/CD%20Intel%20Teach/Curs_Intel_Teach/download/Unit_Portfolios/ProfesoriMaster/Chimie/Proprietatile%20generale%20ale%20metalelor/Evaluare/Lisata%20verificare_%20publicatie_GN.doc" TargetMode="External"/><Relationship Id="rId10" Type="http://schemas.openxmlformats.org/officeDocument/2006/relationships/hyperlink" Target="file:///F:/Curs%20Bihor/CD%20Intel%20Teach/Curs_Intel_Teach/download/Unit_Portfolios/ProfesoriMaster/Chimie/Proprietatile%20generale%20ale%20metalelor/Evaluare/Lisata%20verificare_%20publicatie_GN.doc" TargetMode="External"/><Relationship Id="rId11" Type="http://schemas.openxmlformats.org/officeDocument/2006/relationships/hyperlink" Target="file:///F:/Curs%20Bihor/CD%20Intel%20Teach/Curs_Intel_Teach/download/Unit_Portfolios/ProfesoriMaster/Chimie/Proprietatile%20generale%20ale%20metalelor/Evaluare/Lista%20verificare_wiki_GN.doc" TargetMode="External"/><Relationship Id="rId12" Type="http://schemas.openxmlformats.org/officeDocument/2006/relationships/hyperlink" Target="file:///F:/Curs%20Bihor/CD%20Intel%20Teach/Curs_Intel_Teach/download/Unit_Portfolios/ProfesoriMaster/Chimie/Proprietatile%20generale%20ale%20metalelor/Evaluare/Jurnal%20de%20reflectie_GN.doc" TargetMode="External"/><Relationship Id="rId13" Type="http://schemas.openxmlformats.org/officeDocument/2006/relationships/hyperlink" Target="file:///F:/Curs%20Bihor/CD%20Intel%20Teach/Curs_Intel_Teach/download/Unit_Portfolios/ProfesoriMaster/Chimie/Proprietatile%20generale%20ale%20metalelor/Evaluare/Grila%20de%20scorare_invest&amp;prezentare_interevaluare_GN.doc" TargetMode="External"/><Relationship Id="rId14" Type="http://schemas.openxmlformats.org/officeDocument/2006/relationships/hyperlink" Target="file:///F:/Curs%20Bihor/CD%20Intel%20Teach/Curs_Intel_Teach/download/Unit_Portfolios/ProfesoriMaster/Chimie/Proprietatile%20generale%20ale%20metalelor/Evaluare/Grila%20de%20scorare_invest&amp;prezentare_interevaluare_GN.doc" TargetMode="External"/><Relationship Id="rId15" Type="http://schemas.openxmlformats.org/officeDocument/2006/relationships/hyperlink" Target="file:///F:/Curs%20Bihor/CD%20Intel%20Teach/Curs_Intel_Teach/download/Unit_Portfolios/ProfesoriMaster/Chimie/Proprietatile%20generale%20ale%20metalelor/Evaluare/Grila%20de%20scorare_invest&amp;prezentare_interevaluare_GN.doc" TargetMode="External"/><Relationship Id="rId16" Type="http://schemas.openxmlformats.org/officeDocument/2006/relationships/hyperlink" Target="file:///F:/Curs%20Bihor/CD%20Intel%20Teach/Curs_Intel_Teach/download/Unit_Portfolios/ProfesoriMaster/Chimie/Proprietatile%20generale%20ale%20metalelor/Evaluare/Descriptori_prezentare_GN.htm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F:/Curs%20Bihor/CD%20Intel%20Teach/Curs_Intel_Teach/download/Unit_Portfolios/ProfesoriMaster/Chimie/Proprietatile%20generale%20ale%20metalelor/Asistenta_unitate/Fisa%20de%20lucru_Stari%20de%20agregare_GN.doc" TargetMode="External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600" spc="-1" strike="noStrike">
                <a:solidFill>
                  <a:srgbClr val="ffffff"/>
                </a:solidFill>
                <a:latin typeface="Arial"/>
              </a:rPr>
              <a:t>SUNT IMPORTANTE METALELE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ofesor Lucica Abab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ffffff"/>
                </a:solidFill>
                <a:latin typeface="Arial"/>
              </a:rPr>
              <a:t>În ce măsură metalele sunt importante pentru oameni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80640" y="784800"/>
            <a:ext cx="7554960" cy="5145840"/>
            <a:chOff x="980640" y="784800"/>
            <a:chExt cx="7554960" cy="5145840"/>
          </a:xfrm>
        </p:grpSpPr>
        <p:sp>
          <p:nvSpPr>
            <p:cNvPr id="95" name="_s3081"/>
            <p:cNvSpPr/>
            <p:nvPr/>
          </p:nvSpPr>
          <p:spPr>
            <a:xfrm>
              <a:off x="2109240" y="1860120"/>
              <a:ext cx="4803120" cy="2968920"/>
            </a:xfrm>
            <a:custGeom>
              <a:avLst/>
              <a:gdLst>
                <a:gd name="textAreaLeft" fmla="*/ 0 w 4803120"/>
                <a:gd name="textAreaRight" fmla="*/ 4803480 w 4803120"/>
                <a:gd name="textAreaTop" fmla="*/ 0 h 2968920"/>
                <a:gd name="textAreaBottom" fmla="*/ 2969280 h 296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3082"/>
            <p:cNvSpPr/>
            <p:nvPr/>
          </p:nvSpPr>
          <p:spPr>
            <a:xfrm rot="7200000">
              <a:off x="4226400" y="867960"/>
              <a:ext cx="2968920" cy="4808880"/>
            </a:xfrm>
            <a:custGeom>
              <a:avLst/>
              <a:gdLst>
                <a:gd name="textAreaLeft" fmla="*/ 0 w 2968920"/>
                <a:gd name="textAreaRight" fmla="*/ 2969280 w 2968920"/>
                <a:gd name="textAreaTop" fmla="*/ 0 h 4808880"/>
                <a:gd name="textAreaBottom" fmla="*/ 4809240 h 480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3084"/>
            <p:cNvSpPr/>
            <p:nvPr/>
          </p:nvSpPr>
          <p:spPr>
            <a:xfrm rot="14400000">
              <a:off x="2319120" y="869040"/>
              <a:ext cx="2968920" cy="4806000"/>
            </a:xfrm>
            <a:custGeom>
              <a:avLst/>
              <a:gdLst>
                <a:gd name="textAreaLeft" fmla="*/ 0 w 2968920"/>
                <a:gd name="textAreaRight" fmla="*/ 2969280 w 2968920"/>
                <a:gd name="textAreaTop" fmla="*/ 0 h 4806000"/>
                <a:gd name="textAreaBottom" fmla="*/ 4806360 h 480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3079"/>
            <p:cNvSpPr/>
            <p:nvPr/>
          </p:nvSpPr>
          <p:spPr>
            <a:xfrm>
              <a:off x="6138000" y="2299680"/>
              <a:ext cx="192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3366ff"/>
                  </a:solidFill>
                  <a:latin typeface="Arial"/>
                </a:rPr>
                <a:t>Care sunt proprietăţile fizice ale metalel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3080"/>
            <p:cNvSpPr/>
            <p:nvPr/>
          </p:nvSpPr>
          <p:spPr>
            <a:xfrm>
              <a:off x="3859200" y="4739400"/>
              <a:ext cx="192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3366ff"/>
                  </a:solidFill>
                  <a:latin typeface="Arial"/>
                </a:rPr>
                <a:t>Care sunt metalele cu importanţă practică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3083"/>
            <p:cNvSpPr/>
            <p:nvPr/>
          </p:nvSpPr>
          <p:spPr>
            <a:xfrm>
              <a:off x="1580760" y="2299680"/>
              <a:ext cx="192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3366ff"/>
                  </a:solidFill>
                  <a:latin typeface="Arial"/>
                </a:rPr>
                <a:t>Cum reacţionează metalele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ffffff"/>
                </a:solidFill>
                <a:latin typeface="Arial"/>
              </a:rPr>
              <a:t>Proprietăţile generale ale metalel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 Rounded MT Bold"/>
              </a:rPr>
              <a:t>Veţi cre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O publicaţie/ site wiki pentru prima întrebare a unităţii: “Care sunt proprietăţile fizice ale metalelor?”, </a:t>
            </a:r>
            <a:r>
              <a:rPr b="0" lang="ro-RO" sz="1600" spc="-1" strike="noStrike">
                <a:solidFill>
                  <a:srgbClr val="9999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9999ff"/>
                </a:solidFill>
                <a:latin typeface="Arial"/>
              </a:rPr>
              <a:t>Termen: la sfârşitul lecţiei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O publicaţie/ site wiki pentru a doua întrebare a unităţii: “Cum reacţionează metale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9999ff"/>
                </a:solidFill>
                <a:latin typeface="Arial"/>
              </a:rPr>
              <a:t>     </a:t>
            </a:r>
            <a:r>
              <a:rPr b="0" lang="ro-RO" sz="1600" spc="-1" strike="noStrike">
                <a:solidFill>
                  <a:srgbClr val="9999ff"/>
                </a:solidFill>
                <a:latin typeface="Arial"/>
              </a:rPr>
              <a:t>	</a:t>
            </a:r>
            <a:r>
              <a:rPr b="0" lang="ro-RO" sz="1600" spc="-1" strike="noStrike">
                <a:solidFill>
                  <a:srgbClr val="9999ff"/>
                </a:solidFill>
                <a:latin typeface="Arial"/>
              </a:rPr>
              <a:t>Termen: la sfârşitul lecţiei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O publicaţie/ site wiki pentru a treia întrebare a unităţii: “care sunt metalele cu importanţă practică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9999ff"/>
                </a:solidFill>
                <a:latin typeface="Arial"/>
              </a:rPr>
              <a:t>	</a:t>
            </a:r>
            <a:r>
              <a:rPr b="0" lang="ro-RO" sz="1600" spc="-1" strike="noStrike">
                <a:solidFill>
                  <a:srgbClr val="9999ff"/>
                </a:solidFill>
                <a:latin typeface="Arial"/>
              </a:rPr>
              <a:t>       </a:t>
            </a:r>
            <a:r>
              <a:rPr b="0" lang="ro-RO" sz="1600" spc="-1" strike="noStrike">
                <a:solidFill>
                  <a:srgbClr val="9999ff"/>
                </a:solidFill>
                <a:latin typeface="Arial"/>
              </a:rPr>
              <a:t>Termen: la sfârşitul lecţiei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9999ff"/>
                </a:solidFill>
                <a:latin typeface="Arial"/>
              </a:rPr>
              <a:t>Fiecare grup va crea: o publicaţie şi un site, fiecare dintre produse va răspunde la una din cele trei întrebări ale unităţ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ffffff"/>
                </a:solidFill>
                <a:latin typeface="Arial"/>
              </a:rPr>
              <a:t>Proprietăţile generale ale metalel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 prezent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nuia din produse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proiectului, care va fi susţinută de fiecare gr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9999ff"/>
                </a:solidFill>
                <a:latin typeface="Arial"/>
              </a:rPr>
              <a:t>Termen: în cadrul lecţiei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9999ff"/>
                </a:solidFill>
                <a:latin typeface="Arial Rounded MT Bold"/>
              </a:rPr>
              <a:t>Folosiţi toate instrumentele de control furnizate pe parcursul derulării proiectului</a:t>
            </a:r>
            <a:r>
              <a:rPr b="0" lang="ro-RO" sz="1800" spc="-1" strike="noStrike">
                <a:solidFill>
                  <a:srgbClr val="9999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l</a:t>
            </a:r>
            <a:r>
              <a:rPr b="0" lang="ro-RO" sz="18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l</a:t>
            </a:r>
            <a:r>
              <a:rPr b="0" lang="en-US" sz="18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ist</a:t>
            </a:r>
            <a:r>
              <a:rPr b="0" lang="ro-RO" sz="18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ă</a:t>
            </a:r>
            <a:r>
              <a:rPr b="0" lang="en-US" sz="1800" spc="-1" strike="noStrike" u="sng">
                <a:solidFill>
                  <a:srgbClr val="996666"/>
                </a:solidFill>
                <a:uFillTx/>
                <a:latin typeface="Arial"/>
                <a:hlinkClick r:id="rId5"/>
              </a:rPr>
              <a:t> </a:t>
            </a:r>
            <a:r>
              <a:rPr b="0" lang="en-US" sz="1800" spc="-1" strike="noStrike" u="sng">
                <a:solidFill>
                  <a:srgbClr val="996666"/>
                </a:solidFill>
                <a:uFillTx/>
                <a:latin typeface="Arial"/>
                <a:hlinkClick r:id="rId6"/>
              </a:rPr>
              <a:t>verificare</a:t>
            </a:r>
            <a:r>
              <a:rPr b="0" lang="en-US" sz="1800" spc="-1" strike="noStrike" u="sng">
                <a:solidFill>
                  <a:srgbClr val="996666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1800" spc="-1" strike="noStrike" u="sng">
                <a:solidFill>
                  <a:srgbClr val="996666"/>
                </a:solidFill>
                <a:uFillTx/>
                <a:latin typeface="Arial"/>
                <a:hlinkClick r:id="rId8"/>
              </a:rPr>
              <a:t>publica</a:t>
            </a:r>
            <a:r>
              <a:rPr b="0" lang="ro-RO" sz="1800" spc="-1" strike="noStrike" u="sng">
                <a:solidFill>
                  <a:srgbClr val="996666"/>
                </a:solidFill>
                <a:uFillTx/>
                <a:latin typeface="Arial"/>
                <a:hlinkClick r:id="rId9"/>
              </a:rPr>
              <a:t>ţ</a:t>
            </a:r>
            <a:r>
              <a:rPr b="0" lang="en-US" sz="1800" spc="-1" strike="noStrike" u="sng">
                <a:solidFill>
                  <a:srgbClr val="996666"/>
                </a:solidFill>
                <a:uFillTx/>
                <a:latin typeface="Arial"/>
                <a:hlinkClick r:id="rId10"/>
              </a:rPr>
              <a:t>ie</a:t>
            </a:r>
            <a:r>
              <a:rPr b="0" lang="en-US" sz="1600" spc="-1" strike="noStrike">
                <a:solidFill>
                  <a:srgbClr val="9999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996666"/>
                </a:solidFill>
                <a:uFillTx/>
                <a:latin typeface="Arial"/>
                <a:hlinkClick r:id="rId11"/>
              </a:rPr>
              <a:t>listă verificare site</a:t>
            </a:r>
            <a:r>
              <a:rPr b="0" lang="ro-RO" sz="1800" spc="-1" strike="noStrike">
                <a:solidFill>
                  <a:srgbClr val="9999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996666"/>
                </a:solidFill>
                <a:uFillTx/>
                <a:latin typeface="Arial"/>
                <a:hlinkClick r:id="rId12"/>
              </a:rPr>
              <a:t>jurnal de reflecţie</a:t>
            </a:r>
            <a:r>
              <a:rPr b="0" lang="ro-RO" sz="1800" spc="-1" strike="noStrike">
                <a:solidFill>
                  <a:srgbClr val="9999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996666"/>
                </a:solidFill>
                <a:uFillTx/>
                <a:latin typeface="Arial"/>
                <a:hlinkClick r:id="rId13"/>
              </a:rPr>
              <a:t>grilă de </a:t>
            </a:r>
            <a:r>
              <a:rPr b="0" lang="ro-RO" sz="1800" spc="-1" strike="noStrike" u="sng">
                <a:solidFill>
                  <a:srgbClr val="996666"/>
                </a:solidFill>
                <a:uFillTx/>
                <a:latin typeface="Arial"/>
                <a:hlinkClick r:id="rId14"/>
              </a:rPr>
              <a:t>scorare</a:t>
            </a:r>
            <a:r>
              <a:rPr b="0" lang="ro-RO" sz="1800" spc="-1" strike="noStrike" u="sng">
                <a:solidFill>
                  <a:srgbClr val="996666"/>
                </a:solidFill>
                <a:uFillTx/>
                <a:latin typeface="Arial"/>
                <a:hlinkClick r:id="rId15"/>
              </a:rPr>
              <a:t> investigaţie şi prezentare</a:t>
            </a:r>
            <a:r>
              <a:rPr b="0" lang="ro-RO" sz="1800" spc="-1" strike="noStrike">
                <a:solidFill>
                  <a:srgbClr val="9999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f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ul fie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 ore v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eta jurnalul de refle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9999ff"/>
                </a:solidFill>
                <a:latin typeface="Arial"/>
              </a:rPr>
              <a:t>Timp de lucru: 5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9999ff"/>
                </a:solidFill>
                <a:latin typeface="Arial Rounded MT Bold"/>
              </a:rPr>
              <a:t>Folosiţi pentru alcătuirea prezentării fina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996666"/>
                </a:solidFill>
                <a:uFillTx/>
                <a:latin typeface="Arial"/>
                <a:hlinkClick r:id="rId16"/>
              </a:rPr>
              <a:t>descriptori evaluare _prezentare</a:t>
            </a:r>
            <a:r>
              <a:rPr b="0" lang="ro-RO" sz="1800" spc="-1" strike="noStrike">
                <a:solidFill>
                  <a:srgbClr val="9999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ffffff"/>
                </a:solidFill>
                <a:latin typeface="Arial"/>
              </a:rPr>
              <a:t>Lecţiile ¾: proprietăţile fizico mecanice ale metalel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28640"/>
            <a:ext cx="229716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recunoaştem metale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492000" y="1557000"/>
            <a:ext cx="5194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Obiectiv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Veţ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identific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proprietăţile fizico – mecanice ale metalelo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Veţ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prez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t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ezultatele investigaţiei  într-o publicaţie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/ wik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Sarcini de lucru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Folosiţi </a:t>
            </a:r>
            <a:r>
              <a:rPr b="0" lang="ro-RO" sz="17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fişa de lucru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pentru desfăşurarea activităţii voastre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ica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ţi  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grila de scorare_investigaţie şi prezentare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 pentru broşură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Lucraţi la publicaţie/ wiki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pleta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lista de verificare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grila de scorare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, pentru produsul propri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ffffff"/>
                </a:solidFill>
                <a:latin typeface="Arial"/>
              </a:rPr>
              <a:t>Lecţiile 5/6: proprietăţi chimice ale metalel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2243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m reacţionează metale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70200" y="1628280"/>
            <a:ext cx="576432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100" spc="-1" strike="noStrike">
                <a:solidFill>
                  <a:srgbClr val="000000"/>
                </a:solidFill>
                <a:latin typeface="Arial"/>
              </a:rPr>
              <a:t>Obiectiv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Veţi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investig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comportarea chimică a metalel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Veţi afla despre reactivitatea metalel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100" spc="-1" strike="noStrike">
                <a:solidFill>
                  <a:srgbClr val="000000"/>
                </a:solidFill>
                <a:latin typeface="Arial"/>
              </a:rPr>
              <a:t>Sarcini de lucru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Folosiţi fişa de lucru pentru desfăşurarea activităţii voastre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Verificaţi  veridicitatea concluziilor voastre pe baza </a:t>
            </a:r>
            <a:r>
              <a:rPr b="0" lang="ro-RO" sz="1800" spc="-1" strike="noStrike" u="sng">
                <a:solidFill>
                  <a:srgbClr val="3d8d93"/>
                </a:solidFill>
                <a:uFillTx/>
                <a:latin typeface="Arial"/>
              </a:rPr>
              <a:t>tabelului reactivităţi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ica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ţi  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grila de scorare_investigaţie şi prezentare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 pentru broşură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Lucraţi la publicaţie/ wiki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pleta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lista de verificare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grila de scorare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, pentru produsul propri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ffffff"/>
                </a:solidFill>
                <a:latin typeface="Arial"/>
              </a:rPr>
              <a:t>Lecţia 7: Metale cu importanţă practică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2243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are sunt metalele cu importanţă practic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87280" y="1557000"/>
            <a:ext cx="5699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100" spc="-1" strike="noStrike">
                <a:solidFill>
                  <a:srgbClr val="000000"/>
                </a:solidFill>
                <a:latin typeface="Arial"/>
              </a:rPr>
              <a:t>Obiectiv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Vă veţi  documenta pe tema descoperirii unor metale şi a importanţei lor pentru oamen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Veţ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prez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t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ezultatele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documentări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într-o publicaţie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/ wik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100" spc="-1" strike="noStrike">
                <a:solidFill>
                  <a:srgbClr val="000000"/>
                </a:solidFill>
                <a:latin typeface="Arial"/>
              </a:rPr>
              <a:t>Sarcini de lucru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Urmăriţi prezentarea site-ului creat de colegi: </a:t>
            </a:r>
            <a:r>
              <a:rPr b="0" lang="ro-RO" sz="1700" spc="-1" strike="noStrike" u="sng">
                <a:solidFill>
                  <a:srgbClr val="000000"/>
                </a:solidFill>
                <a:uFillTx/>
                <a:latin typeface="Arial"/>
              </a:rPr>
              <a:t>lucica32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.wik.is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ica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ţi 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grila de scorare_investigaţie şi prezentare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, pentru site-ul analiza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Lucraţi la publicaţie/ wiki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pleta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lista de verificare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grila de scorare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 pentru produsul vostr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ffffff"/>
                </a:solidFill>
                <a:latin typeface="Arial"/>
              </a:rPr>
              <a:t>Lecţia 8: Proprietăţile generale ale metalel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28640"/>
            <a:ext cx="229716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m reacţionează metale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03280" y="1557000"/>
            <a:ext cx="5483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100" spc="-1" strike="noStrike">
                <a:solidFill>
                  <a:srgbClr val="000000"/>
                </a:solidFill>
                <a:latin typeface="Arial"/>
              </a:rPr>
              <a:t>Obiectiv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Veţ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realiza o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z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t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are 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unuia din produsele elaborate în timpul  proiectului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Veţi susţine oral prezentarea voastr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100" spc="-1" strike="noStrike">
                <a:solidFill>
                  <a:srgbClr val="000000"/>
                </a:solidFill>
                <a:latin typeface="Arial"/>
              </a:rPr>
              <a:t>Sarcini de lucru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Lucraţi la prezentar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Folosiţi descrierea criteriilor din </a:t>
            </a:r>
            <a:r>
              <a:rPr b="0" i="1" lang="ro-RO" sz="1700" spc="-1" strike="noStrike">
                <a:solidFill>
                  <a:srgbClr val="000000"/>
                </a:solidFill>
                <a:latin typeface="Arial"/>
              </a:rPr>
              <a:t>descriptori prezentare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atunci când elaboraţi prezentarea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Aplicaţi, individual, grila de scorare pentru toate prezentăril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08:11:28Z</dcterms:created>
  <dc:creator>janos jozsef</dc:creator>
  <dc:description/>
  <dc:language>en-US</dc:language>
  <cp:lastModifiedBy>emi1laptopf</cp:lastModifiedBy>
  <dcterms:modified xsi:type="dcterms:W3CDTF">2010-12-29T10:23:15Z</dcterms:modified>
  <cp:revision>8</cp:revision>
  <dc:subject/>
  <dc:title>Diapozitivul 1</dc:title>
</cp:coreProperties>
</file>